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B7A-67CF-4970-8458-1965462B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4A1-2056-4A18-BB80-DC020561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F2E-803D-4F8F-BB09-81629DE9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84A-C144-455A-B005-C5C1F466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69A-ECD4-414A-A9F5-B553A0E9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AD0-E3B6-424C-ABAE-BBE5E3F4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904-9F4B-4E23-92BC-BD641C18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BFA-C3B3-4E18-A0E4-CAEECD64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0CD7-7AF8-4597-B5C3-794AF16B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416-8382-4CE6-865E-41157605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943-25DB-4FDB-9F78-BCA52E8D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68A-906D-440B-8F77-0747588B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22B4-D2E6-488E-8DC9-15C48078AAD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QWQ\Local Settings\Temporary Internet Files\Content.IE5\W123OPUV\MP900289149[2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sp>
        <p:nvSpPr>
          <p:cNvPr id="42" name="2 Dikdörtgen"/>
          <p:cNvSpPr/>
          <p:nvPr/>
        </p:nvSpPr>
        <p:spPr>
          <a:xfrm>
            <a:off x="1071720" y="1643040"/>
            <a:ext cx="678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MANDALA SEMBOLLER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QWQ\Local Settings\Temporary Internet Files\Content.IE5\W123OPUV\MP900289149[2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sp>
        <p:nvSpPr>
          <p:cNvPr id="44" name="2 Dikdörtgen"/>
          <p:cNvSpPr/>
          <p:nvPr/>
        </p:nvSpPr>
        <p:spPr>
          <a:xfrm>
            <a:off x="1428840" y="0"/>
            <a:ext cx="63579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Calibri"/>
              </a:rPr>
              <a:t>RESİM 13 Mandala Komposizyo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C:\Documents and Settings\QWQ\Belgelerim\Resimlerim\mandal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QWQ\Local Settings\Temporary Internet Files\Content.IE5\W123OPUV\MP900289149[2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sp>
        <p:nvSpPr>
          <p:cNvPr id="47" name="2 Dikdörtgen"/>
          <p:cNvSpPr/>
          <p:nvPr/>
        </p:nvSpPr>
        <p:spPr>
          <a:xfrm>
            <a:off x="1428840" y="614376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Calibri"/>
              </a:rPr>
              <a:t>RESİM 14 Mandala Komposizyonu (Yaşam Ağac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QWQ\Belgelerim\Resimlerim\mandala-tree-of-life-drawin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pic>
        <p:nvPicPr>
          <p:cNvPr id="49" name="tears in heaven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Documents and Settings\QWQ\Local Settings\Temporary Internet Files\Content.IE5\W123OPUV\MP900289149[2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QWQ\Belgelerim\Resimlerim\mandalaow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Documents and Settings\QWQ\Local Settings\Temporary Internet Files\Content.IE5\W123OPUV\MP900289149[2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QWQ\Belgelerim\Resimlerim\manda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QWQ\Local Settings\Temporary Internet Files\Content.IE5\W123OPUV\MP900289149[2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QWQ\Belgelerim\Resimlerim\malvorlage-mandala-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:\Documents and Settings\QWQ\Belgelerim\Resimlerim\adsız2.bmp"/>
          <p:cNvPicPr/>
          <p:nvPr/>
        </p:nvPicPr>
        <p:blipFill>
          <a:blip r:embed="rId1"/>
          <a:stretch/>
        </p:blipFill>
        <p:spPr>
          <a:xfrm>
            <a:off x="1476360" y="262080"/>
            <a:ext cx="6191280" cy="63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:\Documents and Settings\QWQ\Belgelerim\Resimlerim\adsız1.bmp"/>
          <p:cNvPicPr/>
          <p:nvPr/>
        </p:nvPicPr>
        <p:blipFill>
          <a:blip r:embed="rId1"/>
          <a:stretch/>
        </p:blipFill>
        <p:spPr>
          <a:xfrm>
            <a:off x="21420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QWQ\Local Settings\Temporary Internet Files\Content.IE5\W123OPUV\MP900289149[2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pic>
        <p:nvPicPr>
          <p:cNvPr id="59" name="3 Dikdörtgen" descr=""/>
          <p:cNvPicPr/>
          <p:nvPr/>
        </p:nvPicPr>
        <p:blipFill>
          <a:blip r:embed="rId2"/>
          <a:stretch/>
        </p:blipFill>
        <p:spPr>
          <a:xfrm>
            <a:off x="493560" y="774720"/>
            <a:ext cx="81568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4:00:36Z</dcterms:created>
  <dc:creator>levent</dc:creator>
  <dc:description/>
  <dc:language>en-US</dc:language>
  <cp:lastModifiedBy>levent</cp:lastModifiedBy>
  <dcterms:modified xsi:type="dcterms:W3CDTF">2010-10-09T14:00:54Z</dcterms:modified>
  <cp:revision>1</cp:revision>
  <dc:subject/>
  <dc:title>Slayt 1</dc:title>
</cp:coreProperties>
</file>